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1753-3DA6-4FCB-A7E7-18FFE559C3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de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 - Mathem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 - Ge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- Geometrical sha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ool – Army School Roor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ared by Mrs. Ranja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rts of a circle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en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adiu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ame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o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ircum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er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ixed point in the interior of circle whose distance from all the points on the circle is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 = OB = OC = 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tance between the center and any point on the circle is called the radius of the circl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AA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ne which passes through the center and meet any two points on the circle is called the diame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ameter is twice the length of radi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rd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ne which meet at any two points on the circle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ameter is the longest chord of a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 is the chord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of a closed curve forming the boundary of the circle is called the circumference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appy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l now its time to test those grey cells of yours!So all the best and happy click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OR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orrect: Excell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-7 correct: Very g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-7correct: g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-4 correct:F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-2 correct: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1:A circle is 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Simple close curve       (2)Open cu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2:A chord that goes through the center of the circ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Chord                (2)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3:A line that run between the circle and its cent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Radius            (2)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4:A line segments that join two points on the circ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Chord             (2)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jor Concep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 understanding and appreciation of geometrical shapes and their characteris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 and exhibit creativ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 power of thinking and reaso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 scientific tem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5:The distance round the circle is called a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Circumference                    (2)Ch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6:Can a circle have more than one cent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No                                      (2)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7:Diameter is 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Twice of a radius   (2)Half of a 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8:If the radius of the circle is6cm ,then its diameter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12cm                 (2)6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9:If diameter of the circle is 12cm, then its radius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12cm                                   (2)6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10:If radius of the circle 4cm, then its diameter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8cm                 (2)4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LDONE!CORRECT ANSW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for the next question click on the next ques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RRY 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ORRECT ANSW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ter luck nex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or Concep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will be able to recognized different geometrical sha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will be able to  relate various shapes like that of bangle, cart,cone,box etc with circle,triangle,quadrilateral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nu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Qui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te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ly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i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Quadrilate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ircle : Parts of a 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ircum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g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imple closed figures by joining three or more line segments is called poly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s study about types of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angle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closed figure formed by joining three line segments . So , a triangle is a polygon . Different shapes of triangle are shown below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ree line segments which form the triangle are called its side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drilateral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closed figure formed by joining four line segments called quadrilateral.  So quadrilateral is a polygon. Different shapes of quadrilateral are shown below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ur line segments which form a quadrilateral are called its s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le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losed curve formed in such a way that any point on this curve is equidistant from a fixed point which is in the interior of the cur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 = OB = OC = 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7948-0C7A-469B-BB10-2CFF9E1F8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ACED-9FED-475A-93FE-8D2EB265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415E-9D51-44A2-A33A-46D99734B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29A3-0BF0-47DA-84E3-B70E23496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7C51-F45A-47C5-9070-31A2003F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E6F7-E6AC-41B5-AC74-922F9F8C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2FB6-6CFC-4463-9276-DA2BC221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A4C3-A54F-48B8-BF5E-4E228ADA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DC35-86A2-4FBB-A321-131E5621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1A7F-8E53-4F87-A8BB-44794BFB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371A-3034-4BDD-B0AB-1E95A033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60D2-33DD-445F-AC83-48484FD7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C9AD-04D4-4F62-A54F-06E98028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2BD9-99FF-465A-91BC-9A98095A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3F23-3DF3-4292-8F98-69F58820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4398-FF53-4A8B-AF83-B2CBCFE34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1632-A954-48D4-8805-D5C11F368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110C-707F-4D73-AC3E-E17D0F71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1337-B376-4B06-96C8-91715AFB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937D-0BD7-48BA-AE60-5686C054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124C-3577-494D-B14F-6460E9F0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3E9A-2446-4361-A873-A3853F17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778B-3FA6-47E8-84C5-1C0A3C9D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0BA3-3205-43B5-9197-4F50C5DD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3B47-64E5-4128-944D-908A227CD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1976-C5C8-46A5-AE18-C356F365BA2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14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143000" y="669960"/>
            <a:ext cx="9144000" cy="71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Grade - 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Subject - Mathematic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Unit - Geometr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Topic - Geometrical shap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School – Army School Roorke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Prepared by Mrs. Ranjana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AutoShape 3">
            <a:hlinkClick r:id="" action="ppaction://hlinkshowjump?jump=nextslide"/>
          </p:cNvPr>
          <p:cNvSpPr/>
          <p:nvPr/>
        </p:nvSpPr>
        <p:spPr>
          <a:xfrm>
            <a:off x="7696080" y="62485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523880" y="990720"/>
            <a:ext cx="9144000" cy="48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Comic Sans MS"/>
              </a:rPr>
              <a:t>Parts of a circle 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: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enter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Radius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Diameter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hord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ircumferenc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AutoShape 3">
            <a:hlinkClick r:id="rId1" action="ppaction://hlinksldjump"/>
          </p:cNvPr>
          <p:cNvSpPr/>
          <p:nvPr/>
        </p:nvSpPr>
        <p:spPr>
          <a:xfrm>
            <a:off x="5181480" y="21337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AutoShape 4">
            <a:hlinkClick r:id="rId2" action="ppaction://hlinksldjump"/>
          </p:cNvPr>
          <p:cNvSpPr/>
          <p:nvPr/>
        </p:nvSpPr>
        <p:spPr>
          <a:xfrm>
            <a:off x="5257800" y="29718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AutoShape 5">
            <a:hlinkClick r:id="rId3" action="ppaction://hlinksldjump"/>
          </p:cNvPr>
          <p:cNvSpPr/>
          <p:nvPr/>
        </p:nvSpPr>
        <p:spPr>
          <a:xfrm>
            <a:off x="5257800" y="44197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AutoShape 6">
            <a:hlinkClick r:id="rId4" action="ppaction://hlinksldjump"/>
          </p:cNvPr>
          <p:cNvSpPr/>
          <p:nvPr/>
        </p:nvSpPr>
        <p:spPr>
          <a:xfrm>
            <a:off x="5257800" y="37339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AutoShape 7">
            <a:hlinkClick r:id="rId5" action="ppaction://hlinksldjump"/>
          </p:cNvPr>
          <p:cNvSpPr/>
          <p:nvPr/>
        </p:nvSpPr>
        <p:spPr>
          <a:xfrm>
            <a:off x="5257800" y="5334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AutoShape 8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0" y="609480"/>
            <a:ext cx="914400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Comic Sans MS"/>
              </a:rPr>
              <a:t>Center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: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 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A fixed point in the interior of circle whose distance from all the points on the circle is sam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3200400" y="3286080"/>
            <a:ext cx="2057400" cy="1857600"/>
          </a:xfrm>
          <a:prstGeom prst="flowChartSummingJunction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4876920" y="4724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5000760" y="314316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3071880" y="321480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2895480" y="4572000"/>
            <a:ext cx="1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4000680" y="364320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0" y="5943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  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A = OB = OC = O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AutoShape 15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0" y="838080"/>
            <a:ext cx="914400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Comic Sans MS"/>
              </a:rPr>
              <a:t>Radius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The distance between the center and any point on the circle is called the radius of the circle.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Oval 3"/>
          <p:cNvSpPr/>
          <p:nvPr/>
        </p:nvSpPr>
        <p:spPr>
          <a:xfrm>
            <a:off x="10744200" y="3505320"/>
            <a:ext cx="914400" cy="9144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Oval 4"/>
          <p:cNvSpPr/>
          <p:nvPr/>
        </p:nvSpPr>
        <p:spPr>
          <a:xfrm>
            <a:off x="2928960" y="3643200"/>
            <a:ext cx="2209680" cy="198612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4000680" y="4643280"/>
            <a:ext cx="1143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1353680" y="4495680"/>
            <a:ext cx="228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AA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9677520" y="4648320"/>
            <a:ext cx="454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5286240" y="4286160"/>
            <a:ext cx="1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3571920" y="428616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AutoShape 12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0" y="457200"/>
            <a:ext cx="914400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Diameter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The line which passes through the center and meet any two points on the circle is called the diame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Oval 3"/>
          <p:cNvSpPr/>
          <p:nvPr/>
        </p:nvSpPr>
        <p:spPr>
          <a:xfrm>
            <a:off x="2438280" y="2743200"/>
            <a:ext cx="1828800" cy="18288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Line 4"/>
          <p:cNvSpPr/>
          <p:nvPr/>
        </p:nvSpPr>
        <p:spPr>
          <a:xfrm flipV="1">
            <a:off x="2514600" y="2895480"/>
            <a:ext cx="76320" cy="763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2428920" y="3714840"/>
            <a:ext cx="1828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2000160" y="335772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4357800" y="342900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Text Box 41"/>
          <p:cNvSpPr/>
          <p:nvPr/>
        </p:nvSpPr>
        <p:spPr>
          <a:xfrm>
            <a:off x="9906120" y="35812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Text Box 45"/>
          <p:cNvSpPr/>
          <p:nvPr/>
        </p:nvSpPr>
        <p:spPr>
          <a:xfrm>
            <a:off x="0" y="4800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 diameter is twice the length of radiu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AutoShape 46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TextBox 11"/>
          <p:cNvSpPr/>
          <p:nvPr/>
        </p:nvSpPr>
        <p:spPr>
          <a:xfrm>
            <a:off x="3143160" y="32148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53352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Chord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: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The line which meet at any two points on the circle 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A diameter is the longest chord of a circl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CD is the chord of the circl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Oval 3"/>
          <p:cNvSpPr/>
          <p:nvPr/>
        </p:nvSpPr>
        <p:spPr>
          <a:xfrm>
            <a:off x="1357200" y="3357720"/>
            <a:ext cx="2590920" cy="23382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Oval 4"/>
          <p:cNvSpPr/>
          <p:nvPr/>
        </p:nvSpPr>
        <p:spPr>
          <a:xfrm>
            <a:off x="4724280" y="3809880"/>
            <a:ext cx="2514600" cy="226224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Line 5"/>
          <p:cNvSpPr/>
          <p:nvPr/>
        </p:nvSpPr>
        <p:spPr>
          <a:xfrm flipV="1">
            <a:off x="1500120" y="3929040"/>
            <a:ext cx="2286000" cy="460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4714920" y="4929120"/>
            <a:ext cx="25146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4357800" y="4643280"/>
            <a:ext cx="18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7286760" y="4643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1000080" y="378612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3857760" y="3571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2357280" y="421488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AutoShape 14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786280" y="45720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0" y="1447920"/>
            <a:ext cx="914400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Circumference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Length of a closed curve forming the boundary of the circle is called the circumference of the circle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Oval 3"/>
          <p:cNvSpPr/>
          <p:nvPr/>
        </p:nvSpPr>
        <p:spPr>
          <a:xfrm>
            <a:off x="2819520" y="4038480"/>
            <a:ext cx="2514600" cy="22482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2666880" y="4724280"/>
            <a:ext cx="152640" cy="3049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Line 5"/>
          <p:cNvSpPr/>
          <p:nvPr/>
        </p:nvSpPr>
        <p:spPr>
          <a:xfrm flipH="1">
            <a:off x="2819160" y="4724280"/>
            <a:ext cx="228600" cy="2286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AutoShape 6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533520" y="1295280"/>
            <a:ext cx="777240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Happy Reading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4" name="AutoShape 3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685800" y="1066680"/>
            <a:ext cx="8458200" cy="55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uiz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Well now its time to test those grey cells of yours!So all the best and happy clicking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SCORING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10 correct: Excell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8-7 correct: Very goo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5-7correct: goo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3-4 correct:Fai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0-2 correct:po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AutoShape 3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380880" y="1371600"/>
            <a:ext cx="87631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1:A circle is 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Simple close curve       (2)Open cur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2:A chord that goes through the center of the circl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Chord                (2)Diame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AutoShape 3">
            <a:hlinkClick r:id="rId1" action="ppaction://hlinksldjump"/>
          </p:cNvPr>
          <p:cNvSpPr/>
          <p:nvPr/>
        </p:nvSpPr>
        <p:spPr>
          <a:xfrm>
            <a:off x="4786200" y="22147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AutoShape 4">
            <a:hlinkClick r:id="rId2" action="ppaction://hlinksldjump"/>
          </p:cNvPr>
          <p:cNvSpPr/>
          <p:nvPr/>
        </p:nvSpPr>
        <p:spPr>
          <a:xfrm>
            <a:off x="7429680" y="421488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AutoShape 5">
            <a:hlinkClick r:id="rId3" action="ppaction://hlinksldjump"/>
          </p:cNvPr>
          <p:cNvSpPr/>
          <p:nvPr/>
        </p:nvSpPr>
        <p:spPr>
          <a:xfrm>
            <a:off x="8686800" y="2214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AutoShape 6">
            <a:hlinkClick r:id="rId4" action="ppaction://hlinksldjump"/>
          </p:cNvPr>
          <p:cNvSpPr/>
          <p:nvPr/>
        </p:nvSpPr>
        <p:spPr>
          <a:xfrm>
            <a:off x="281952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609480" y="838080"/>
            <a:ext cx="85345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3:A line that run between the circle and its center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Radius            (2)Diame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4:A line segments that join two points on the circl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Chord             (2)Diame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AutoShape 3">
            <a:hlinkClick r:id="rId1" action="ppaction://hlinksldjump"/>
          </p:cNvPr>
          <p:cNvSpPr/>
          <p:nvPr/>
        </p:nvSpPr>
        <p:spPr>
          <a:xfrm>
            <a:off x="3124080" y="22096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AutoShape 4">
            <a:hlinkClick r:id="rId2" action="ppaction://hlinksldjump"/>
          </p:cNvPr>
          <p:cNvSpPr/>
          <p:nvPr/>
        </p:nvSpPr>
        <p:spPr>
          <a:xfrm>
            <a:off x="3276720" y="4191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7072200" y="214308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723888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1295280"/>
            <a:ext cx="914400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Major Concep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evelop understanding and appreciation of geometrical shapes and their characteristi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evelop and exhibit creativi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evelop power of thinking and reason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evelop scientific temp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;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AutoShape 3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609480" y="1981080"/>
            <a:ext cx="85345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5:The distance round the circle is called a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Circumference                    (2)Chor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6:Can a circle have more than one center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No                                      (2)Y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AutoShape 3"/>
          <p:cNvSpPr/>
          <p:nvPr/>
        </p:nvSpPr>
        <p:spPr>
          <a:xfrm>
            <a:off x="4214880" y="33577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2143080" y="57150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2928960" y="385776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2143080" y="621504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0" y="1143000"/>
            <a:ext cx="9144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7:Diameter is 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Twice of a radius   (2)Half of a radi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8:If the radius of the circle is6cm ,then its diameter i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12cm                 (2)6c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4143240" y="200016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1857240" y="471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8501040" y="200016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6215040" y="4714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0" y="1066680"/>
            <a:ext cx="9144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9:If diameter of the circle is 12cm, then its radius i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12cm                                   (2)6c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10:If radius of the circle 4cm, then its diameter 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8cm                 (2)4c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1714680" y="485784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2133720" y="2438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2071800" y="300024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5929200" y="492912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609480" y="1676520"/>
            <a:ext cx="8534520" cy="26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WELLDONE!CORRECT ANSWER!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Now for the next question click on the next ques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AutoShape 3">
            <a:hlinkClick r:id="" action="ppaction://hlinkshowjump?jump=previousslide"/>
          </p:cNvPr>
          <p:cNvSpPr/>
          <p:nvPr/>
        </p:nvSpPr>
        <p:spPr>
          <a:xfrm>
            <a:off x="7848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914400" y="1981080"/>
            <a:ext cx="6248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ORRY !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INCORRECT ANSWER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Better luck next tim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AutoShape 3">
            <a:hlinkClick r:id="" action="ppaction://hlinkshowjump?jump=previousslide"/>
          </p:cNvPr>
          <p:cNvSpPr/>
          <p:nvPr/>
        </p:nvSpPr>
        <p:spPr>
          <a:xfrm>
            <a:off x="7620120" y="6095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026"/>
          <p:cNvSpPr/>
          <p:nvPr/>
        </p:nvSpPr>
        <p:spPr>
          <a:xfrm>
            <a:off x="0" y="1143000"/>
            <a:ext cx="9144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Minor Concepts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tudents will be able to recognized different geometrical shap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tudents will be able to  relate various shapes like that of bangle, cart,cone,box etc with circle,triangle,quadrilateral 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AutoShape 102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2438280" y="914400"/>
            <a:ext cx="4800600" cy="32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Menu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onten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Quiz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AutoShape 3">
            <a:hlinkClick r:id="rId1" action="ppaction://hlinksldjump"/>
          </p:cNvPr>
          <p:cNvSpPr/>
          <p:nvPr/>
        </p:nvSpPr>
        <p:spPr>
          <a:xfrm>
            <a:off x="4724280" y="19810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AutoShape 4">
            <a:hlinkClick r:id="rId2" action="ppaction://hlinksldjump"/>
          </p:cNvPr>
          <p:cNvSpPr/>
          <p:nvPr/>
        </p:nvSpPr>
        <p:spPr>
          <a:xfrm>
            <a:off x="4800600" y="28195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AutoShape 5">
            <a:hlinkClick r:id="" action="ppaction://hlinkshowjump?jump=nextslide"/>
          </p:cNvPr>
          <p:cNvSpPr/>
          <p:nvPr/>
        </p:nvSpPr>
        <p:spPr>
          <a:xfrm>
            <a:off x="7956720" y="61657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219320" y="0"/>
            <a:ext cx="7924680" cy="65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Content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Polyg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Triang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uadrilater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Circle : Parts of a circ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Radi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iame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Chor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Circumfere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AutoShape 3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0492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457200" y="533520"/>
            <a:ext cx="8153280" cy="34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Comic Sans MS"/>
              </a:rPr>
              <a:t>Polygon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 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A simple closed figures by joining three or more line segments is called polyg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571680" y="4786200"/>
            <a:ext cx="79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Lets study about types of polygon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457200" y="457200"/>
            <a:ext cx="8229600" cy="62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Triangle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It is a closed figure formed by joining three line segments . So , a triangle is a polygon . Different shapes of triangle are shown below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The three line segments which form the triangle are called its sides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1066680" y="3124080"/>
            <a:ext cx="914400" cy="914400"/>
          </a:xfrm>
          <a:prstGeom prst="rtTriangl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2743200" y="30481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80880" y="380880"/>
            <a:ext cx="8305920" cy="67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Quadrilateral 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It is a closed figure formed by joining four line segments called quadrilateral.  So quadrilateral is a polygon. Different shapes of quadrilateral are shown below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The four line segments which form a quadrilateral are called its sid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914400" y="3505320"/>
            <a:ext cx="914400" cy="609480"/>
          </a:xfrm>
          <a:prstGeom prst="flowChartProcess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2590920" y="3505320"/>
            <a:ext cx="914400" cy="609480"/>
          </a:xfrm>
          <a:prstGeom prst="flowChartInputOutpu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4191120" y="3657600"/>
            <a:ext cx="914400" cy="457200"/>
          </a:xfrm>
          <a:prstGeom prst="flowChartManualInpu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5867280" y="3505320"/>
            <a:ext cx="914400" cy="609480"/>
          </a:xfrm>
          <a:prstGeom prst="flowChartDecision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7467480" y="3505320"/>
            <a:ext cx="914400" cy="609480"/>
          </a:xfrm>
          <a:prstGeom prst="flowChartManualOperation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0" y="304920"/>
            <a:ext cx="9144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Circle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: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A closed curve formed in such a way that any point on this curve is equidistant from a fixed point which is in the interior of the curv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3203640" y="3429000"/>
            <a:ext cx="1749240" cy="1752480"/>
          </a:xfrm>
          <a:prstGeom prst="flowChartSummingJunction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4716360" y="32846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4716360" y="4869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3755880" y="38098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0" y="5943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OA = OB = OC = O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AutoShape 1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Rectangle 18"/>
          <p:cNvSpPr/>
          <p:nvPr/>
        </p:nvSpPr>
        <p:spPr>
          <a:xfrm>
            <a:off x="3924360" y="3860640"/>
            <a:ext cx="287280" cy="28764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2987640" y="3357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Text Box 20"/>
          <p:cNvSpPr/>
          <p:nvPr/>
        </p:nvSpPr>
        <p:spPr>
          <a:xfrm>
            <a:off x="3059280" y="486900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1T04:27:09Z</dcterms:created>
  <dc:creator>kanta k</dc:creator>
  <dc:description/>
  <dc:language>en-US</dc:language>
  <cp:lastModifiedBy>RomaK</cp:lastModifiedBy>
  <dcterms:modified xsi:type="dcterms:W3CDTF">2015-09-04T07:41:10Z</dcterms:modified>
  <cp:revision>23</cp:revision>
  <dc:subject/>
  <dc:title>No Slide Title</dc:title>
</cp:coreProperties>
</file>